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D32-877C-45BA-B9D1-98CFFF88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827-A68E-4FDC-BD3F-722F8F78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B47C8-40B1-41E8-AA74-B73BE273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01068-01E7-4C8B-977D-950D89D7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5B203-1A55-45EB-94B1-B90AF17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96F2D-98F2-4E63-B7CF-A7A4B357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B5E10-FD90-45E8-83CB-11EFA21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21F20-CBDD-4094-B146-C79A4152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EA04B-CA85-42CE-A9F0-B8F1A223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CBBEE-2F0E-4FCC-9779-3F1B430E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29793-8F25-4A38-A810-52018ADC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A2A23-ABE7-4AEB-9E01-FABB8AEE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8A1-CE44-416C-9589-C93E192C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BB3FC-7CD3-44AD-99E8-035303DC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35BD1-F2A3-49AB-9AAA-5797D179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7B37E-3A48-4E97-AA66-C5B9A9F7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25A6B-AF42-4419-B43F-9E77B83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E2BB3-C089-4AA2-80A4-8318F0B9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78622-F5F9-46AD-B026-4C3E829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240E4-47DD-4344-A213-1DDD7D0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26655-72C0-4392-98F1-F3325AFC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85F7F-6B48-4AFB-97FD-E60851F7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7A581-CDD5-4F1A-8530-C763AFF6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CC7-E6A5-4F75-A70E-98446CDF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4CA58-74BD-4167-A085-3CC403D7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8209B-E464-4CCE-9CE9-FEC1A512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09E3C-D7FD-459E-96A4-2948E98E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2069E-367F-4663-98CB-8BBEFEB8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051D4-A153-4D38-8426-ABBEBBD7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A8482-240F-49AD-909A-D3FD3FF5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45D45-98ED-4EE2-828A-42ED61C1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021AB-BAC7-47F3-9709-C8C69C9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81EE1-BFF7-4BB4-B027-7D4C8DDD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F7F79-1D83-40BB-B151-E125423C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DBA8-0282-4633-895D-03C279BD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645F1-0D7F-4F41-AAFF-F4D8341B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30908-FBE2-4273-A5FB-18381064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E8286-0800-4A51-89E5-0B9E86B8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251E3-3D6A-4332-8179-25E9FABF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F3D95-9DEE-476A-8CA6-5C10DF77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BD304-0CAB-4114-A418-3804E6A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2EE4F-7C6B-48FB-8977-F6AEE4FE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8079F-1013-4272-A615-8C0CAF02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042BD-3794-44DC-82E8-32C58C86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09811-6D2E-4074-AF7F-4474AB56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A10-EBC5-4DFD-A1C3-2585DEB9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C9060-8E4D-4071-80BC-D9E77AE1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FC39C-B6DB-4659-9BB9-B6CE3A97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AF411-7441-47E6-AC82-6354292C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9F9C6-7259-488F-B87D-D84F43D3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7D021-6D75-49A1-9197-B9A2E2CB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C2A7D-727C-4284-A856-5A8F8341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F3E9F-6874-4926-A5EB-D1695BE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F0AE8-6F25-4ADB-81BD-1B9AC240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768AC-4088-4DDC-AE8A-D85A03B9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DF5EF-8B78-4BCA-875F-2E52AFE3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0655-4E95-49C1-9E2D-D2945CE8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2EC0F-69F3-41B2-A1DF-8CD4FFE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4F49D-5BED-4B59-9CA3-A78C2C4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061CA-B305-491A-980B-62B01590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49E1E-E0B2-4904-B4BB-6DEF180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585A0-11A2-49C6-BCF3-208F08FE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AD7ED-87FB-407B-83C6-FAB1CC03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6552F-769D-471B-BD2B-6E45DF00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25CFA-2C0E-4858-86D6-389D018D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E8093-6B78-47B3-9274-A3AD1EBB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E1A97-00E2-489B-B02B-791E6623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F017-B969-4AB8-BB65-DA67D690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BC7D8-959C-44B0-B85E-3435DD2C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37EC2-A3C5-489A-8020-B40BC5F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F0792-2B30-49AB-82B0-45EA613B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191B9-F5D2-463B-A2E3-EF0DD953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F55F55-3FA5-42EE-BD9E-92D42C7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DAF3F-B11F-4702-91E4-CB268AA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0F3B4-EC8E-406F-A54A-9EAADFCC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27977-EACD-4C17-A3DC-66950F65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BA7E7-B6BB-490C-8420-3C6C54CA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FB4ED-5A30-4771-B362-AA2E7F40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F64C-8500-403D-B7BF-8EECFDB7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8571B-FCF2-4C04-896C-88FD77EB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D21F5-1137-4010-BEE2-9352F056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0CE6E-3A77-4BCA-BAC3-77D1B326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AC53E-6576-4E38-8DD2-2982A75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025A2-C1B8-4116-A586-86CD64AA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6C6DB-EB6F-4E4C-BE6F-8E7358E2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F0797-D760-4ECD-AA0A-93196D2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F6E80-99AE-41F6-BE93-13FB4827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A4A49-98E6-434F-9F07-92325D53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BE64D-A179-4D95-972C-C1CAE896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FBAB-637C-4B81-A3D8-36AA25CD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05757-B490-4CF6-B069-26998153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8840B8-D264-4C85-B330-7E55BE8F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DF964-0AEA-48E8-A12E-671F623E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6055E-E849-41C4-9394-D2E0B2B1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D09B35-F39B-4E57-A013-0C72C88E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6F55B8-AD5F-4EA2-A20C-5E63D2C6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D2E6F-4F4F-4697-A936-8D3E191D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B4666-82BC-4F18-A29F-16865642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CCF40-80B6-4667-B3C0-29D00B95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2703CE-58AC-498A-B227-8E904427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D7B-0267-45A2-9A3B-E04C069A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1B74C-33B0-44B8-82F9-DC352774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EAFCA-243D-43A8-8155-0DCA281A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938AC7-539B-4610-850A-72D39CFE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F0897-39B2-429A-A684-41F5FFDC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7F119E-EB99-473F-B435-81004254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4618E-CFCD-4697-A09C-BF53A0A9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353AD-EE48-48A1-BF0D-F14BB899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EEE09-3A44-4B96-BAA2-A4EA0F78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EBDCC-D8CD-42D4-AE86-834125B1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11831-CB11-417A-BC02-9A859590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645-7FCD-4895-9DEC-30444362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4F2C-72F1-49DD-A5E1-C2587B4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BC354-950E-431C-8770-8C69DD79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3AEEE-29E8-4EF6-9BAA-12F0E6D2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96039-6E4F-44C9-9CB1-8F041D23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82ACA-E249-4CEA-9A61-E323A2A0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95864-9C83-4374-9E4C-1D2AF1E1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D8292-4E9B-4B54-9429-0F3944B8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2D24E-4C07-4034-80E9-9F055325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A5160-71CF-42C7-A1AC-F31FD817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9EDB2-A16E-4513-900D-1663213E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F4B4B-3A21-4F7E-8B72-59FED143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719C-F9B2-47B4-BB9D-C182E9E3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705A8-1B60-4B4B-9BCF-1BCDE525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8A76B0-E408-418B-A1C0-19D093D5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7027E9-430E-41F6-9AE9-703E3F67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48C39-1586-4E81-BF85-C1AC50F3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DF2FE-8EF5-4251-856F-40494322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30BA6-C9DD-4313-9219-FD05D3A5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40BDD-3A27-44D2-8956-78D6D69D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826D8-4B8F-49C5-BFBD-27194DF8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04F10-30BA-48AA-B095-299ADA13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1E2AF-B5FA-4B5B-BB5E-D0313AAE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CC7D-7B71-421B-8B77-EB4F2A30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42C4D-B47C-4E7B-833F-1FC68A81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72F80-EB24-4F3C-ACDE-7A6A4EDE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1C51C7-0E2B-4549-9D1E-3591FC60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56503-BF8F-4850-BF81-64E5C3B5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D25B92-0A86-4179-9780-18274572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FD8CD3-13BA-414F-BA5D-311091F8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AFE40E-0043-4914-88D8-685A7FFC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A1A00-4C8A-48C6-A583-A6617AE4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9C6D0-2C7D-40E3-BE14-7F95A403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5AD2F-1AFE-48CD-B3CD-71087A28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93C2-6D49-41D9-8EFD-4B1BDF97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B8E45-7FC0-4396-B781-4DF83216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93F1BC-CC16-4860-8D10-9835F64F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FADD5-3B75-4A04-A061-A2409719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7F7A6-71B0-40F9-AC74-55AC982E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9511A3-457C-417C-8447-893B4807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B682E-024D-47CD-AFC3-5D7E02D0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DA8FC-D99F-454D-B379-B4BE1AC7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1FAB0-6439-4828-AA3B-148870B4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E518EF-EEC3-4944-A6CA-B720591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0CB24-D039-4CA6-9C9B-023B53DF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B9A7-DD3D-4E98-A2F9-25F16EB0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11D1C-7FDA-4CE4-B9FC-BBA4A16F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99FEA4-0E79-4309-8507-9B288C7E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C07AE0-83A6-4E54-B5F7-428A605E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B4F8B6-2FD4-4A56-A1B1-42ABDA01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2A1904-4346-4516-A4B2-FC0BB6E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5A90A-C595-4FCB-89DF-3F2038F4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DBEE5-D87D-4C96-A554-DF1CA1A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F4377-D2F9-4395-BA5A-7150CB7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DB228B-FFE0-4F50-AA93-FBDCF813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033D07-8864-4845-BED3-F6B93BD7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BE0B-CBEC-4DD3-99FD-75752B9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8B510E-2B02-4C3C-B8A3-23444B3B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8977B-3D1D-4504-8BDC-AD2C7A33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AE3F95-5C0D-450F-913B-6D3DD9B9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0C5AD-FA5D-4AC1-8B85-B8CECD17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3BDF-83B8-444E-AB02-71DCDD4B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3330-CF9E-440B-9F38-B8528B4B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3C75-BA46-434A-8BBC-303CC7CD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FB5-3B80-4F1D-B18E-0380D980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6196-6A36-46FD-A2CB-7D03E185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F5BF1-095E-4454-AA0E-1B20BFA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E5E3-5E60-49C0-AD1D-E39276C0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EF7B-25E4-4A02-8A34-201AF748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5E9B-F733-43EE-9341-F91BEF37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7F82-21E8-4405-9058-928CB954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6C72-72C7-40CF-AC92-0B4E409F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3C06A-9911-4E0C-BE5F-4B756290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B04D8-2321-41F0-82D5-F07BDD2A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B635-9AE1-41F5-9947-32172E25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0E0-6B41-4C66-B1DA-E9555F3A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F084C-0CB7-45F4-8916-F7C8CB0D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77C99-668A-43BA-A60C-51F186AD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65ED-4114-4243-AEB1-25F827FF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4ED4D-A8CB-44DC-9E04-A409BE38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8D80-1680-4951-AAE5-D2908F89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F702-4A09-412B-B695-4919C9D2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22A0-DA91-42B3-962C-335C834B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2294E-CCF9-417F-B34B-986A29E1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1B11-99F6-4333-83CD-77FD633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E952-D89D-4891-85B9-D0D589C0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26B-27FA-4D96-9F38-684B1830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23C98-56A9-40A8-BF22-387CA7C3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F1CF3-F5AF-442B-BEFD-4886D4E6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B32F-B13B-4B47-940A-9A2D3828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F5E8-A78A-4DFA-B6AA-974528A8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A936A-6DDE-477A-A05A-92593CAD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4B977-EED7-426E-B208-F05C852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ACAC9-57A3-4499-88B2-E9D823F2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25F29-4A0C-44CF-A24E-B492A398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970B5-CF48-4C10-AAB9-83682461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64BE4-C8A0-4AAA-ADA3-58E40037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0CA-E719-4B72-BCA2-73298249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578F3-225B-4A5C-AB9C-C0A4B72D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F5AD3-883B-4A65-A196-9ADC9308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53CA0-6F61-4F79-A484-1511B90F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2C8D6-37A2-4343-9DEB-8A8C186F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68318-3E89-4B96-A4DE-B04A664E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6E2DE-5179-4196-B94B-11E39228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68677-0CBC-4287-97FD-0A298345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7B239-1809-4BB9-B1CD-90A51C9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B7185-1971-44A3-9BF5-373D6FCF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0216-F1A9-4E01-81FB-6FB4812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0A4-ED80-4003-9D42-C836987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E5922-EC1E-463A-AAF5-5F9CFEAB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94904-880F-4476-A417-F3176488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2BB22-B6FF-4203-836C-4AB92A66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55593-5889-4E8E-A0C5-61094536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1A93E-B487-4B5A-98EC-520BDE95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4DDAC-FB2E-472B-B13E-16B1A7F3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BB79F-B784-4637-8E83-CB82F782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794A3-066B-4D39-9E23-9C5FB482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EFEF7-355B-4862-953F-6DFD2F30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476CC-A580-42F7-9163-25A89F0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F43-ADB5-40D6-BC72-0895BA10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F1126-BFAF-43A9-A6D1-2EDBC375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92DE6-B973-405C-A05F-AFB1459D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1813-F6DB-466F-8DBF-C72824D8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2FD4D-802D-436C-8C71-03D3CEAB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80347-F9ED-440B-9BCD-C45C5CB4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D408A-07A7-4670-B41F-75EBAB0F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F772-B392-46DD-8EF2-9730863C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B8E51-BE3A-4D24-B2AD-F1D3189F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1DB55-B744-4958-8A22-1E0C132E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2A4DD-11A6-4AF8-A869-E9F9B675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08B-A59C-45D6-8A19-FB1DA1A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7EEA-3540-4527-BA93-55CF2E15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BB3F5-8C15-47FA-83CD-43807BA9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61B46-3102-4D90-8694-D488A83E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55E77-2A9A-437E-AC4B-AA91B27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E2563-A33B-4AEF-84A5-E8A3B305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E1DF3-A0DA-4E9F-97E6-975621CB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0FDD1-6D4A-420B-8219-634280D7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D434A-4E62-4BA4-9F8B-9CE3E751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4907E-973A-497E-893C-904199F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67E69-7B25-4CD2-B0AF-158B2943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19B1-B922-480A-800A-067D411F86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90CF-8E1E-4831-A7EB-A3DCE0E824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3E34-DFE3-4C57-9C03-4ECD8EF620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0EC7-AEF5-4E81-BA30-3D5880E157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57C1-574D-4350-828B-5C9717CA55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9545-74A9-401C-8C80-CFF8E923E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1D66-CFCC-454B-82DD-85F8B1405D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0C9C-BDB0-40F3-BF5E-B33D58A36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775A-9B32-491A-BD7C-D7E1DAEAA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477C-AA43-4A73-8654-C89AE8A87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FBAB-DD53-4424-B4B3-5BE55A57C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8243-90C0-4108-9F53-0511421214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9588-5765-458A-8468-95A7D86561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7BEE-8BFE-4676-8AF7-54E3B59FFB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C884-7FEC-43B0-B24F-6C36DBC37E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0654-CAC0-411F-A752-8002C5C033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3752-78F8-4DE5-AD17-C7AC43D31C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EE6A-336A-48C5-A969-C9E7DF2278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915-59AB-4377-880E-2F525EAD5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85F-91BD-440F-8D11-E380CDBEB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1D03-8AC4-4FBA-98FC-6D31FAE0BB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4B7D-85FF-4BE4-8C85-2E31223D74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01A-EFA1-471F-BF05-EF2EF17CE6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6F3E-7316-4CC9-9DEE-172843E9AC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6390-213E-41BF-B64F-51C2A2C63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6DB6-9B05-4C57-AD53-122DF33EBE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27DE-5DF0-4A46-96E4-B56C9ED76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493-11D7-45B7-8AA2-9F98D673C3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03EA-1417-42BD-B19F-150EDF6520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2886-4C61-4917-B430-8BD2FE15E5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4281-ECA9-4B76-9688-8A7702B76D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2D5B-0F1D-429B-9063-4D36BC5D7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5510-E102-422B-BD77-30CA32574B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8380-A69E-4D09-82E0-0B840F21C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4AA7-F4F4-4120-88A9-8851C6BA2E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EE40-BC5C-4227-89FB-08AE84C2DB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19A8-2F30-440C-8AF8-39E775BB01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0DF5-0801-46F8-B7CE-FAA6B498E3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37B4-38DD-4E8B-B26B-D595071014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E1D2-E684-4170-BA2E-69E713C19B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90640" y="2933640"/>
            <a:ext cx="5562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309600" y="819000"/>
            <a:ext cx="85248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8609" descr=""/>
          <p:cNvPicPr/>
          <p:nvPr/>
        </p:nvPicPr>
        <p:blipFill>
          <a:blip r:embed="rId1"/>
          <a:stretch/>
        </p:blipFill>
        <p:spPr>
          <a:xfrm>
            <a:off x="566640" y="2171880"/>
            <a:ext cx="8010720" cy="2514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611280" y="2219400"/>
            <a:ext cx="820872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820908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820872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468360" y="4105440"/>
            <a:ext cx="8209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7585" descr=""/>
          <p:cNvPicPr/>
          <p:nvPr/>
        </p:nvPicPr>
        <p:blipFill>
          <a:blip r:embed="rId1"/>
          <a:stretch/>
        </p:blipFill>
        <p:spPr>
          <a:xfrm>
            <a:off x="909720" y="981000"/>
            <a:ext cx="7324560" cy="217188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67586" descr=""/>
          <p:cNvPicPr/>
          <p:nvPr/>
        </p:nvPicPr>
        <p:blipFill>
          <a:blip r:embed="rId2"/>
          <a:stretch/>
        </p:blipFill>
        <p:spPr>
          <a:xfrm>
            <a:off x="152280" y="3379680"/>
            <a:ext cx="8839440" cy="2210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394400" y="1413000"/>
            <a:ext cx="72108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327560" y="2133720"/>
            <a:ext cx="720720" cy="790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7437600" y="2247840"/>
            <a:ext cx="720720" cy="4939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2340000" y="3789360"/>
            <a:ext cx="720720" cy="4935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8"/>
          <a:stretch/>
        </p:blipFill>
        <p:spPr>
          <a:xfrm>
            <a:off x="4989600" y="3716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9"/>
          <a:stretch/>
        </p:blipFill>
        <p:spPr>
          <a:xfrm>
            <a:off x="7581960" y="3716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0"/>
          <a:stretch/>
        </p:blipFill>
        <p:spPr>
          <a:xfrm>
            <a:off x="1835280" y="466740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1"/>
          <a:stretch/>
        </p:blipFill>
        <p:spPr>
          <a:xfrm>
            <a:off x="4989600" y="4579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2"/>
          <a:stretch/>
        </p:blipFill>
        <p:spPr>
          <a:xfrm>
            <a:off x="8691480" y="4653000"/>
            <a:ext cx="4381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257040"/>
            <a:ext cx="8524800" cy="6343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09480" y="833400"/>
            <a:ext cx="7925040" cy="5619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6372360" y="148428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3348000" y="56894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4211640" y="5661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5076720" y="5661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5940360" y="5661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6732720" y="566100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657360" y="1857240"/>
            <a:ext cx="7829280" cy="3143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2556000" y="3125880"/>
            <a:ext cx="143964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2340000" y="3730680"/>
            <a:ext cx="144000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4140360" y="4422600"/>
            <a:ext cx="792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247680" y="1738440"/>
            <a:ext cx="8648640" cy="33811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2916360" y="435132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6588000" y="4365720"/>
            <a:ext cx="5763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928800" y="2519280"/>
            <a:ext cx="7286400" cy="18194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3203640" y="3314880"/>
            <a:ext cx="576360" cy="8204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093080" y="3314880"/>
            <a:ext cx="5760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290520" y="900000"/>
            <a:ext cx="85629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4276" descr=""/>
          <p:cNvPicPr/>
          <p:nvPr/>
        </p:nvPicPr>
        <p:blipFill>
          <a:blip r:embed="rId1"/>
          <a:stretch/>
        </p:blipFill>
        <p:spPr>
          <a:xfrm>
            <a:off x="947880" y="2124000"/>
            <a:ext cx="7248240" cy="2610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741672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741708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1332000" y="3500280"/>
            <a:ext cx="741672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1116000" y="4076640"/>
            <a:ext cx="741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2231" descr=""/>
          <p:cNvPicPr/>
          <p:nvPr/>
        </p:nvPicPr>
        <p:blipFill>
          <a:blip r:embed="rId1"/>
          <a:stretch/>
        </p:blipFill>
        <p:spPr>
          <a:xfrm>
            <a:off x="200160" y="1085760"/>
            <a:ext cx="8743680" cy="4686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439272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84360" y="4565520"/>
            <a:ext cx="828036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611280" y="5229360"/>
            <a:ext cx="8280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41:2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